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AC15-D984-475A-A8C9-9DB81D1D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E08-083A-4DA0-BAC2-51D44025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407-6F9A-47FA-85CA-7A9C04CC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B67E-4B9B-46C4-B8EF-5E1090E5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8BE0A-C748-47E0-9E0A-809F018B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B980E-60EB-491D-83AD-B99F39FA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AEB8F-19FF-400B-885D-5AF8C498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F8C44-1133-46D2-9D15-43AF9064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DFB10-228A-4642-AA37-E6FEE317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64F0B-B1B6-4888-8D71-3E7011C8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CEB5D-3271-4EFB-89D1-57E50E08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B3F-3A9E-488D-9A2F-F1724ABA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16A26-ACB2-4599-9F55-86687D87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1E6DF-643C-45EB-8618-3DC671EC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6B3C6-CE20-4A14-8AD2-C5E9A001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BB037-2E47-474E-94DE-06FEA299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6345E-7362-4793-A8E6-98872C13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AA3-1F56-451D-A7C7-339D3DF7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795-0284-47F9-A5DE-E44AABDD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9A9-6BF3-47B9-81FC-831D30C5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16C-660A-439E-881E-80E3A55E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7AE-BC1A-4951-B3C8-C9569E18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74E-889B-4AE9-94BD-93556970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2D8-D57F-4EAC-AAC9-B6AFC059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EB38-9CB0-47D8-B24A-15B9704A4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7B88-5679-43C0-86A2-7E4242573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33720" y="1676520"/>
            <a:ext cx="495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urray River Maintenance Management Pla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52480" y="685800"/>
            <a:ext cx="640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ahoma"/>
              </a:rPr>
              <a:t>Murray River Maintenance Management Pla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029200" y="29718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762120"/>
            <a:ext cx="800100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urrent Sit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arming and irrigation is consuming too much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Climate change leading to reduced rainfall and drou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re is not enough water in the river to sustain marine     life and natural vege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river has high levels of chemicals from ferti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09680" y="5335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sired Outco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1828800"/>
            <a:ext cx="762012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d amount of water flowing in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Improved water quality in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Sustained marine life and regeneration of vegetation along our river ba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Sustainable farm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685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posed Action and Guidel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447920"/>
            <a:ext cx="8610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Public education on water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Better and more efficient irrigatio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Government buying water from far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Building pipelines to reduce evap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Research into better farming e.g. crops requiring much less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Use of more eco friendly ferti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Introduce and encourage less damaging tourist explo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1:55:06Z</dcterms:created>
  <dc:creator>aidan.riga</dc:creator>
  <dc:description/>
  <dc:language>en-US</dc:language>
  <cp:lastModifiedBy>aidan.riga</cp:lastModifiedBy>
  <dcterms:modified xsi:type="dcterms:W3CDTF">2009-04-09T03:14:17Z</dcterms:modified>
  <cp:revision>2</cp:revision>
  <dc:subject/>
  <dc:title>Slide 1</dc:title>
</cp:coreProperties>
</file>